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38B1-5204-4D86-BDBF-96EB4A061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8B81-14B2-436E-9B31-CBE64242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F0A22-E7FF-40AF-A30E-EE5E08F20C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B0D5C-007F-401A-B2BB-C98721BDF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3646E-7322-460C-B393-CAD889797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E06223-B942-4DC7-B66D-4A2478586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D3B09-8EC4-4B13-A054-D21C53E93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B8EAB-79AC-4DED-9223-F6E8B5B63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E583C2-A262-4A2D-8AB3-7CDAF7630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0906B0-96C5-4909-A735-82D1249FFE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1C2641-5CC4-4D5D-B3A7-407660610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ABE41A-B362-4204-BD11-7F6DBC8F8B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6A07-2F43-4046-872E-88A884DA5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0D31DB-3F2A-4C88-89AB-D59ADC64E9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213F58-09E7-4601-AB12-ACD9AFA704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5166BE-BAC3-4AF5-A752-B3506ED8CF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095D13-4FEB-4645-93C7-DF0BD01505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D6B97B-7B88-4649-8CE1-5157B8C739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024764-CF23-42BB-838F-07E354EA24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612873-CEAE-4BFD-BCC1-99DDBE147D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34B5B2-7A06-4458-8206-25AA1B70E9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5212D3-4110-459C-A2F4-0B87176A77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38EB0C-9375-4D33-A341-B94BBFF71B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8B89-9328-4459-B802-0D61F77C1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4347CF-B4E1-42A6-B773-425FBE424F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F684611-712A-48CE-835D-17F4B4CF079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3B23FE6-E91F-4F4A-AD26-8EBCB82F0A8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25B6A28-AAFF-4232-9599-2CCFC875DA8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A45BC2-F433-40F7-AF29-E26A349CE4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E3F175C-5A40-459A-A35D-375AF0A386A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2A06E9-EFBF-4056-9FEF-0D4BE218695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DA79E8F-8F99-488A-AE5D-194B46BFEF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EC8F49-C98A-4CD3-BC33-A104AB277C1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6CF4AB-D045-4E98-890C-7490C5B39F9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874E8-19A2-4792-87E4-F5C6368C4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F0CAA77-AF35-47E3-95A9-2BC530BB836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15420A4-F8EC-47A9-A886-9E55B4B4C61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7094C53-5167-435D-8DB6-F15F87871B7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22E480-3270-45A8-8DE2-561B509615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51B107-A62F-4908-A7BF-5D392546B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62031E-F9AF-498C-ADBD-DD90E41B59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072A7D-F363-4282-9161-4443E65987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F25544-4746-4161-937E-4445BE53D6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CEB40A-A9C4-47B0-B55A-B1BBAAF72D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279AD6-D60F-4523-992C-B4EC7CF06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72F84-9FDD-4C7D-A6F1-43ED360DA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D9BD5D-8627-4785-AEAC-4DE945119D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2AB07-3A9F-4956-99A8-02B96B856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872980-87AE-446C-993B-479A485F4E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BF7E70-7009-45F6-BB91-6B6016F3B2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68EADA-84FA-47CB-AC63-DE63D44544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F4421B-3915-4D9E-BBAE-D86FCFA747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08D685-9936-4E18-907E-5579DE2BB3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9E10D4-238F-4288-B829-C6ABA84D2A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AC51FA-3958-49FD-903D-D1D9D343DA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E7F4CA-1E4D-47D6-8919-ED3885E76B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86E6C-3E83-414F-859F-839D136BB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F3A784-FA88-4DDC-9FDC-D9AE4389BA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DBF439-AFC8-43EB-AA89-DF2FF7AF95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26DE41-99BE-4351-A260-B986A32A73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0F23C6-63F7-45E1-B542-413E51D30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F82DF4-A8DD-4679-8255-625F63F648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A13159-8788-48D9-8009-AEFFDBA5E3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5E3ED9-5498-4B89-9BA4-F662969582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FEA017-A767-47AD-BF98-1E50654D74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9712E1-4D67-4E55-B85A-1142A687E6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9C49C3-E819-4954-9038-F6FC84E1EA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06DE0-9B8F-4B23-B823-08FF5B39D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3BBF75-799D-41CB-BE47-88284A8070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4469C5-4EB6-421C-ABC8-1D03270583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DEEB43-BC2E-4D27-89CA-D5A42E52D5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8E5973-19BA-48FD-B8AB-09FD72E408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BA0D6E-C54E-40DF-8573-1B5EA8F867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FBFB1D-4C8E-4FD2-AF5A-66509A34C2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E55393-BD16-4D6C-B3A2-B73BF83303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C2D5D7-40AC-46D4-B505-BC1CC7044E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CCC118-9B6A-4B84-AF19-4B5BAAED72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B5F9F9-D58D-4897-A8BA-52ACBAE313E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642A-878E-426B-B893-72BCAF268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87B08E-7C0E-44C8-AF00-98E5673906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1CEC90-480C-4E3A-975E-9079B7900F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5377BB-7F56-41B4-9E07-4A44D5B272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9A4590-4BE6-4AF9-810C-201B9EB9EE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C87439-597F-4628-8772-52470E01F6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398219-748B-49BD-AB39-FB256365D5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26F41E-3E96-46C8-9A07-735D5CD4FC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E1ACE2-FE4C-4850-86E2-40137B7BE2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49EDE9-009B-458C-B733-BA4D0B536D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E09547F-B5F3-4455-955D-DAFE0555C5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68841-3EBC-4C30-B7EF-4E6BCAAE0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34E0034-549F-4CAB-B4B9-7C63CCF2AB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223829-32B5-426D-8E15-3CE65ECF3F7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99E642-2078-45FC-998B-A983444EB4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3EF60F-A64C-474E-A616-114BC95E7D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5E6CAE-229D-473A-9107-ECD6EB5CF2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6B6B70-3B2E-4616-9010-C410C9D096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411B2F-F36A-4CB3-9CC8-653B0C8C8E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29B128-61E9-4AAD-97D3-F682A9CC9F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95B318-3993-4906-92B5-8BE981327A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AF14A3-4CE5-4430-A288-89107F17C8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65893-0B82-4EEE-B421-97D1A0D55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D52249-ACE0-4796-A8D9-B60B650E67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E5F03AC-4CD0-4FF1-AF13-AF4A3D9E788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175A683-608E-41AA-A955-6604D4E157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AB94-FEC2-4BB8-8D82-E621393C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7706-9F77-4AAA-B553-6A6203827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DA4D-E7EF-42AE-8310-C0F75158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DC1E6-585F-4521-8CC6-1399563D5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31A70-B018-4CC4-8C3F-762B75CB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429EE-4DF8-4D80-91C4-25CA17626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FCE2D-EF05-420A-8EE6-6F8B2FC08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4A772-DBD2-4BC3-8997-2E3D1E6BC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72D93-B006-48F1-BE90-DE7835706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85343-E273-467B-B831-BBB4D5E28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31B5E-6F33-47F6-A222-0FEC7DB0B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C026-9503-4238-B52E-D098866C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8757F-04A5-4CBC-8B07-786A2BFC8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41BA0-F8A1-4C73-99E6-B11BE64EA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F7F5E-2632-4FEC-BD5F-D6866CD96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A93C4-0066-4156-B4E6-9734C0883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40026-6927-4E06-8C59-AB1C78569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83E5A8-756B-4EF1-94AD-9C054CD8C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3D0530-618D-46D1-A089-332A6D7B65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B3404-245B-4C8F-924C-B7ED9B1CA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E5A02-4145-4A88-9154-7C9BB24DBF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FD992-B2C4-45FB-BD2B-116E34699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3B02-0FB4-4696-AC7C-4AC45155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0C2AB-5EBB-466D-9EF8-1AB135E6D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C7A85-1150-4BBF-97A5-19903279C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7152F-F02C-45B9-A717-4173FEAB0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05A35-04E3-4B53-9211-FBAE48977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CA254-20B4-4679-9399-EC9A47B24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3F768-B1DE-49DC-9E8D-FE802497C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BA89A-503B-4126-BC62-25BA454DC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02158C-6EF4-4C2C-9570-363041BA27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92909-48B0-46DA-BAD7-12C2AB98C4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1F5C05-74C4-45C5-A1C0-A637EFFB4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010C5-AAB2-42B8-AE11-2A0CCBB5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AA1A6-8ECF-4B89-BA1D-3EE59D3FC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1CFC2-DBD8-48EB-B5A7-2B4800320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728FD-B07E-422F-84C1-15A93948E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94AA9-435A-4815-884D-991CD5CE4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2F3D9-7015-4DAD-B2AB-F88156523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74A77-F523-48A6-96B9-60627F1BE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FFD05-4A1F-4BDC-AC88-80DA6990E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4E9FB-888D-48E1-A725-7748EAA05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FE5EC-7B96-41C5-903A-7DC8498FE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F283F1-40F8-4364-A76D-3DE9F2BFA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903E-C410-44D3-B2C3-9A4652AE0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6A5933-FD8F-4DEB-B445-A73C483812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4B7063-484A-4843-B224-44BB0AF02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509DF-7224-4A92-8522-58E4CC2407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0292E-CD6C-4BAE-86BA-2C1BF951C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BBA77-6D28-4C3A-8C50-5446E5D3F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E957A-5F70-4AF8-867E-DAC161F76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9C190-EF40-43CD-9451-95D173ADB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6AA41-F73B-427E-A79A-3730A259D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7E827-1CCB-4FCF-B60E-0E2E0A9FA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53B4F-C6E4-4D22-81BF-515BFD0AE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E9D3-FF88-4D65-AA59-7652EFE6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DD9D6-A164-47BA-9889-D5345E12D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73529-41ED-47F7-BC35-4BC7C72B6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D7F892-53CD-4C94-A587-4C4FB2FF2A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B0B55F3B-C08D-4B08-AB86-28CF0326C59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7E11C1A-E13C-49AE-97E0-FD5F9887185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E9ABF29-4C60-4CD7-A7EE-4E92C9175E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35636FB-98DF-4CD6-A6B7-2467EE7277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CF60A8F-ABC3-450B-9605-B783DB7E9E9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168B9C9-3364-4E18-AD48-80E80A7FD1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8C61854-5645-4B38-83FC-199D22CDBE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64BD8-7C5A-43B4-B53D-2513125F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E5999C1-B108-4BE5-811D-A94F6B2F08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E6BC7D4-2011-4350-9D77-A1228618BE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956FC82-FA06-455D-80A0-7E6DCC1148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689D57C2-7C73-4E9E-B022-344984DB279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62CD39B2-409C-41CC-9B42-51B75AD0936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0D50BF-EF34-4464-8B94-CABAA1B5B7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F530E7-DD23-4EC3-AAC0-A839C5F98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ED81B-BD3C-4BB7-B4DE-F070B17590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0B874-69AA-486B-882C-DF2EDBD2E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6D1034-B947-42A5-918E-15FD76005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91E68-CE10-42F9-B991-0622259DF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FF43E-ECEE-47C9-A0E1-D7855E7A7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AF186-946C-4729-BC86-5425234F1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ABFA0-BC86-49C4-A361-61E58FA0E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366A1-4A46-4C98-B31D-890AC9F29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CF475-5CA2-4F43-8CB4-7C6B9DEBEE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28B2BD-6852-4775-84CE-9EDB9ABE9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AAF5B3-E64E-4AD1-8BF0-89CE6B8D6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AE325C-A1FF-4305-8CAC-E4446C309A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B2A74-D60B-4055-8F40-9734BF5444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EB2C51-7A47-4E68-824C-FDFEC112E0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AE30-B643-4E3A-A1A9-AE658919EFD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0" y="0"/>
            <a:ext cx="9144000" cy="6934320"/>
            <a:chOff x="0" y="0"/>
            <a:chExt cx="9144000" cy="6934320"/>
          </a:xfrm>
        </p:grpSpPr>
        <p:sp>
          <p:nvSpPr>
            <p:cNvPr id="84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5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0"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1"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38E2-55A9-48F2-AF88-5EA7DF5D7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98" name=""/>
          <p:cNvGrpSpPr/>
          <p:nvPr/>
        </p:nvGrpSpPr>
        <p:grpSpPr>
          <a:xfrm>
            <a:off x="0" y="0"/>
            <a:ext cx="9159840" cy="6858000"/>
            <a:chOff x="0" y="0"/>
            <a:chExt cx="9159840" cy="6858000"/>
          </a:xfrm>
        </p:grpSpPr>
        <p:sp>
          <p:nvSpPr>
            <p:cNvPr id="89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2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23"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2B97-19DF-4AD8-9EC9-DF0C7E85951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24"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61" name=""/>
          <p:cNvGrpSpPr/>
          <p:nvPr/>
        </p:nvGrpSpPr>
        <p:grpSpPr>
          <a:xfrm>
            <a:off x="0" y="0"/>
            <a:ext cx="9159840" cy="6858000"/>
            <a:chOff x="0" y="0"/>
            <a:chExt cx="9159840" cy="6858000"/>
          </a:xfrm>
        </p:grpSpPr>
        <p:sp>
          <p:nvSpPr>
            <p:cNvPr id="96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98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8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8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F92D-A317-4E04-9C08-7D963E65FFC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3" name=""/>
          <p:cNvGrpSpPr/>
          <p:nvPr/>
        </p:nvGrpSpPr>
        <p:grpSpPr>
          <a:xfrm>
            <a:off x="3800520" y="1789200"/>
            <a:ext cx="5348160" cy="5056200"/>
            <a:chOff x="3800520" y="1789200"/>
            <a:chExt cx="5348160" cy="5056200"/>
          </a:xfrm>
        </p:grpSpPr>
        <p:sp>
          <p:nvSpPr>
            <p:cNvPr id="102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02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0"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61"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62"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8E8F-C8C9-4D67-98A7-8A58A52C7E4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99" name=""/>
          <p:cNvGrpSpPr/>
          <p:nvPr/>
        </p:nvGrpSpPr>
        <p:grpSpPr>
          <a:xfrm>
            <a:off x="3800520" y="1789200"/>
            <a:ext cx="5348160" cy="5056200"/>
            <a:chOff x="3800520" y="1789200"/>
            <a:chExt cx="5348160" cy="5056200"/>
          </a:xfrm>
        </p:grpSpPr>
        <p:sp>
          <p:nvSpPr>
            <p:cNvPr id="110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10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3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4" name="PlaceHolder 1"/>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5" name="PlaceHolder 2"/>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6"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37"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9FBE-525A-438F-A9CA-0BDA913582E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174" name=""/>
          <p:cNvGrpSpPr/>
          <p:nvPr/>
        </p:nvGrpSpPr>
        <p:grpSpPr>
          <a:xfrm>
            <a:off x="3600" y="1422360"/>
            <a:ext cx="9143640" cy="5435640"/>
            <a:chOff x="3600" y="1422360"/>
            <a:chExt cx="9143640" cy="5435640"/>
          </a:xfrm>
        </p:grpSpPr>
        <p:grpSp>
          <p:nvGrpSpPr>
            <p:cNvPr id="1175" name=""/>
            <p:cNvGrpSpPr/>
            <p:nvPr/>
          </p:nvGrpSpPr>
          <p:grpSpPr>
            <a:xfrm>
              <a:off x="31680" y="1422360"/>
              <a:ext cx="9115560" cy="5435640"/>
              <a:chOff x="31680" y="1422360"/>
              <a:chExt cx="9115560" cy="5435640"/>
            </a:xfrm>
          </p:grpSpPr>
          <p:sp>
            <p:nvSpPr>
              <p:cNvPr id="11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89" name=""/>
            <p:cNvGrpSpPr/>
            <p:nvPr/>
          </p:nvGrpSpPr>
          <p:grpSpPr>
            <a:xfrm>
              <a:off x="3600" y="3639960"/>
              <a:ext cx="2193840" cy="2694240"/>
              <a:chOff x="3600" y="3639960"/>
              <a:chExt cx="2193840" cy="2694240"/>
            </a:xfrm>
          </p:grpSpPr>
          <p:sp>
            <p:nvSpPr>
              <p:cNvPr id="11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26" name="PlaceHolder 2"/>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7"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328" name="PlaceHolder 4"/>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E581-160B-402E-B9C5-FA6679DDB9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2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366" name=""/>
          <p:cNvGrpSpPr/>
          <p:nvPr/>
        </p:nvGrpSpPr>
        <p:grpSpPr>
          <a:xfrm>
            <a:off x="3600" y="1422360"/>
            <a:ext cx="9143640" cy="5435640"/>
            <a:chOff x="3600" y="1422360"/>
            <a:chExt cx="9143640" cy="5435640"/>
          </a:xfrm>
        </p:grpSpPr>
        <p:grpSp>
          <p:nvGrpSpPr>
            <p:cNvPr id="1367" name=""/>
            <p:cNvGrpSpPr/>
            <p:nvPr/>
          </p:nvGrpSpPr>
          <p:grpSpPr>
            <a:xfrm>
              <a:off x="31680" y="1422360"/>
              <a:ext cx="9115560" cy="5435640"/>
              <a:chOff x="31680" y="1422360"/>
              <a:chExt cx="9115560" cy="5435640"/>
            </a:xfrm>
          </p:grpSpPr>
          <p:sp>
            <p:nvSpPr>
              <p:cNvPr id="136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6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381" name=""/>
            <p:cNvGrpSpPr/>
            <p:nvPr/>
          </p:nvGrpSpPr>
          <p:grpSpPr>
            <a:xfrm>
              <a:off x="3600" y="3639960"/>
              <a:ext cx="2193840" cy="2694240"/>
              <a:chOff x="3600" y="3639960"/>
              <a:chExt cx="2193840" cy="2694240"/>
            </a:xfrm>
          </p:grpSpPr>
          <p:sp>
            <p:nvSpPr>
              <p:cNvPr id="138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9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0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18" name="PlaceHolder 2"/>
          <p:cNvSpPr>
            <a:spLocks noGrp="1"/>
          </p:cNvSpPr>
          <p:nvPr>
            <p:ph type="dt" idx="4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519"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520" name="PlaceHolder 4"/>
          <p:cNvSpPr>
            <a:spLocks noGrp="1"/>
          </p:cNvSpPr>
          <p:nvPr>
            <p:ph type="sldNum" idx="4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1273-ED28-4251-BBF6-EB4EEA98D1F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B65A-972D-497E-BA00-395859FDAB8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4469-9254-413C-8693-5091DD2FBA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1D5B-9223-424C-B165-FA2674CF8F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318960" y="1828800"/>
            <a:ext cx="8825040" cy="5029200"/>
            <a:chOff x="318960" y="1828800"/>
            <a:chExt cx="8825040" cy="5029200"/>
          </a:xfrm>
        </p:grpSpPr>
        <p:sp>
          <p:nvSpPr>
            <p:cNvPr id="17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8"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DACC-6CF1-43E8-9EEA-729AC790B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19" name=""/>
          <p:cNvGrpSpPr/>
          <p:nvPr/>
        </p:nvGrpSpPr>
        <p:grpSpPr>
          <a:xfrm>
            <a:off x="318960" y="1752480"/>
            <a:ext cx="8825040" cy="5129280"/>
            <a:chOff x="318960" y="1752480"/>
            <a:chExt cx="8825040" cy="5129280"/>
          </a:xfrm>
        </p:grpSpPr>
        <p:sp>
          <p:nvSpPr>
            <p:cNvPr id="22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27"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F7C7-969C-4780-AA62-062A2DEC8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66" name=""/>
          <p:cNvGrpSpPr/>
          <p:nvPr/>
        </p:nvGrpSpPr>
        <p:grpSpPr>
          <a:xfrm>
            <a:off x="-103320" y="1308240"/>
            <a:ext cx="9350640" cy="5632560"/>
            <a:chOff x="-103320" y="1308240"/>
            <a:chExt cx="9350640" cy="5632560"/>
          </a:xfrm>
        </p:grpSpPr>
        <p:sp>
          <p:nvSpPr>
            <p:cNvPr id="267"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0"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12"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3"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6"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7"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2"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9"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30"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2"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3"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4"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5"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7"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8"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0"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41"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4"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6"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8"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0"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1"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3"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4"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5"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6"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7"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8"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6"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7"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8"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9"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0"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3"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5"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6"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8"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9"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80"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4"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5"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6"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7"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0"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1"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3"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7"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0"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1"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4"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5"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6"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7"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8"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2"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5"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6"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7"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2"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5"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7"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9"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0"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1"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2"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3"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5"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6"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9"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1"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2"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3"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5"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8"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9"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3"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4"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5"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6"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7"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2" name="PlaceHolder 1"/>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7810-3A74-40B8-BB7D-FDD0FC783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2"/>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3"/>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23" name=""/>
          <p:cNvGrpSpPr/>
          <p:nvPr/>
        </p:nvGrpSpPr>
        <p:grpSpPr>
          <a:xfrm>
            <a:off x="-105120" y="1311120"/>
            <a:ext cx="9350640" cy="5632560"/>
            <a:chOff x="-105120" y="1311120"/>
            <a:chExt cx="9350640" cy="5632560"/>
          </a:xfrm>
        </p:grpSpPr>
        <p:sp>
          <p:nvSpPr>
            <p:cNvPr id="524"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7"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9"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0"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1"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2"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3"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74"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5"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7"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8"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9"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0"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1"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2"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3"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4"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5"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6"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87"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8"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9"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0"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1"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2"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94"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95"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96"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97"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98"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9"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0"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1"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2"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03"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4"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05"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6"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7"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8"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09"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10"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1"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2"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13"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14"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15"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23"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24"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5"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6"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7"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28"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9"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0"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1"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2"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3"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5"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6"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7"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8"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9"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0"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41"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42"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43"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4"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5"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6"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47"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48"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9"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0"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1"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2"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3"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4"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5"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6"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7"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58"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9"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0"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1"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2"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3"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4"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5"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6"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7"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8"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9"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0"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1"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2"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3"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4"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5"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6"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7"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8"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9"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1"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2"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3"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4"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5"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6"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7"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8"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9"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1"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93"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4"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6"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7"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8"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9"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0"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1"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2"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0"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1"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2"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4"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5"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6"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7"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0"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1"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2"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3"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4"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8"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40"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E9E4-46B0-420F-957E-6776EB8AE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9" name=""/>
          <p:cNvGrpSpPr/>
          <p:nvPr/>
        </p:nvGrpSpPr>
        <p:grpSpPr>
          <a:xfrm>
            <a:off x="0" y="0"/>
            <a:ext cx="9144000" cy="6934320"/>
            <a:chOff x="0" y="0"/>
            <a:chExt cx="9144000" cy="6934320"/>
          </a:xfrm>
        </p:grpSpPr>
        <p:sp>
          <p:nvSpPr>
            <p:cNvPr id="78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00"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2"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5124-9740-41D4-BA8B-CE9B12B6A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hyperlink" Target="http://es.wikipedia.org/wiki/George_Devol" TargetMode="External"/><Relationship Id="rId2" Type="http://schemas.openxmlformats.org/officeDocument/2006/relationships/hyperlink" Target="http://es.wikipedia.org/wiki/George_Devol" TargetMode="External"/><Relationship Id="rId3" Type="http://schemas.openxmlformats.org/officeDocument/2006/relationships/hyperlink" Target="http://es.wikipedia.org/w/index.php?title=Joseph_Engelberger&amp;action=edit&amp;redlink=1" TargetMode="External"/><Relationship Id="rId4" Type="http://schemas.openxmlformats.org/officeDocument/2006/relationships/hyperlink" Target="http://es.wikipedia.org/w/index.php?title=Joseph_Engelberger&amp;action=edit&amp;redlink=1" TargetMode="External"/><Relationship Id="rId5"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innovatecno.com/Imagenes/arquitectura.jpg&amp;imgrefurl=http://www.innovatecno.com/Arquitectura.php&amp;usg=__92yx4CLzcMB72s6gQyXNNLXevLE=&amp;h=425&amp;w=503&amp;sz=31&amp;hl=es&amp;start=2&amp;sig2=YxgPmVo0ocKdU9iuIu7tAg&amp;tbnid=VxvlX-cUVkQCFM:&amp;tbnh=110&amp;tbnw=130&amp;ei=17WxSa6cE9qhtwfL6_TDBw&amp;prev=/images%3Fq%3Darquitectura%26gbv%3D2%26hl%3Des" TargetMode="External"/><Relationship Id="rId2" Type="http://schemas.openxmlformats.org/officeDocument/2006/relationships/image" Target="../media/image5.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hyperlink" Target="http://oseb79.free.fr/images/Serie,%20cartoon/Walt%20disney%2003.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755640" y="4076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cc"/>
                </a:solidFill>
                <a:latin typeface="Tahoma"/>
              </a:rPr>
              <a:t>Colegio Bilingüe de Palmares</a:t>
            </a:r>
            <a:br>
              <a:rPr sz="4000"/>
            </a:br>
            <a:r>
              <a:rPr b="0" lang="es-CR" sz="4000" spc="-1" strike="noStrike">
                <a:solidFill>
                  <a:srgbClr val="ffffcc"/>
                </a:solidFill>
                <a:latin typeface="Tahoma"/>
              </a:rPr>
              <a:t>Trabajo de TISG</a:t>
            </a:r>
            <a:br>
              <a:rPr sz="4000"/>
            </a:br>
            <a:r>
              <a:rPr b="0" lang="es-CR" sz="4000" spc="-1" strike="noStrike">
                <a:solidFill>
                  <a:srgbClr val="ffffcc"/>
                </a:solidFill>
                <a:latin typeface="Tahoma"/>
              </a:rPr>
              <a:t>Integrantes: </a:t>
            </a:r>
            <a:br>
              <a:rPr sz="4000"/>
            </a:br>
            <a:r>
              <a:rPr b="0" lang="es-CR" sz="4000" spc="-1" strike="noStrike">
                <a:solidFill>
                  <a:srgbClr val="ffffcc"/>
                </a:solidFill>
                <a:latin typeface="Tahoma"/>
              </a:rPr>
              <a:t>Alina Rodríguez R.</a:t>
            </a:r>
            <a:br>
              <a:rPr sz="4000"/>
            </a:br>
            <a:r>
              <a:rPr b="0" lang="es-CR" sz="4000" spc="-1" strike="noStrike">
                <a:solidFill>
                  <a:srgbClr val="ffffcc"/>
                </a:solidFill>
                <a:latin typeface="Tahoma"/>
              </a:rPr>
              <a:t>María Angélica Vargas M.</a:t>
            </a:r>
            <a:br>
              <a:rPr sz="4000"/>
            </a:br>
            <a:r>
              <a:rPr b="0" lang="es-CR" sz="4000" spc="-1" strike="noStrike">
                <a:solidFill>
                  <a:srgbClr val="ffffcc"/>
                </a:solidFill>
                <a:latin typeface="Tahoma"/>
              </a:rPr>
              <a:t>Katherine Villalobos Z.</a:t>
            </a:r>
            <a:br>
              <a:rPr sz="4000"/>
            </a:br>
            <a:r>
              <a:rPr b="0" lang="es-CR" sz="4000" spc="-1" strike="noStrike">
                <a:solidFill>
                  <a:srgbClr val="ffffcc"/>
                </a:solidFill>
                <a:latin typeface="Tahoma"/>
              </a:rPr>
              <a:t>BI 1-2</a:t>
            </a:r>
            <a:br>
              <a:rPr sz="4000"/>
            </a:br>
            <a:r>
              <a:rPr b="0" lang="es-CR" sz="4000" spc="-1" strike="noStrike">
                <a:solidFill>
                  <a:srgbClr val="ffffcc"/>
                </a:solidFill>
                <a:latin typeface="Tahoma"/>
              </a:rPr>
              <a:t>2009</a:t>
            </a:r>
            <a:endParaRPr b="0" lang="en-US" sz="4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azadores frustrados siguiendo tortugas</a:t>
            </a:r>
            <a:endParaRPr b="0" lang="en-US" sz="4000" spc="-1" strike="noStrike">
              <a:solidFill>
                <a:srgbClr val="e5ffff"/>
              </a:solidFill>
              <a:latin typeface="Tahoma"/>
            </a:endParaRPr>
          </a:p>
        </p:txBody>
      </p:sp>
      <p:sp>
        <p:nvSpPr>
          <p:cNvPr id="15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Son procesadores diminutos que son rastreados a través de un satélit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Por ejemplo especies de plantas y animales a las que se les implantan dispositivos para rastrearlos y estudiar su comportamiento.</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También podemos citar que son implantados para rastrear carros robados.</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Y casos especiales como: m</a:t>
            </a:r>
            <a:r>
              <a:rPr b="0" lang="es-ES" sz="2800" spc="-1" strike="noStrike">
                <a:solidFill>
                  <a:srgbClr val="ffffff"/>
                </a:solidFill>
                <a:latin typeface="Tahoma"/>
              </a:rPr>
              <a:t>ascotas, prisioneros, gente con la enfermedad de Alzheimer, y niñ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duciendo el uso del papel y la basura</a:t>
            </a:r>
            <a:endParaRPr b="0" lang="en-US" sz="4000" spc="-1" strike="noStrike">
              <a:solidFill>
                <a:srgbClr val="dfdef6"/>
              </a:solidFill>
              <a:latin typeface="Arial"/>
            </a:endParaRPr>
          </a:p>
        </p:txBody>
      </p:sp>
      <p:sp>
        <p:nvSpPr>
          <p:cNvPr id="157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necesidad del uso de papel y la cantidad de basura están siendo disminuidas gracias al almacenamiento electrónico, la capacidad de editar y la actualización de dato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Por ejemplo los libros electrónicos disminuye la cantidad del uso de pap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eec94"/>
                </a:solidFill>
                <a:latin typeface="Times New Roman"/>
              </a:rPr>
              <a:t>Observaciones</a:t>
            </a:r>
            <a:endParaRPr b="1" lang="en-US" sz="4400" spc="-1" strike="noStrike">
              <a:solidFill>
                <a:srgbClr val="feec94"/>
              </a:solidFill>
              <a:latin typeface="Times New Roman"/>
            </a:endParaRPr>
          </a:p>
        </p:txBody>
      </p:sp>
      <p:sp>
        <p:nvSpPr>
          <p:cNvPr id="1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La meta principal de la tecnología es la segurida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Desventajas: que antes éramos capaces de hacer muchas cosas (El Puente de Brooklyn, Las Pirámides..) sin ayuda de las computadoras. Hoy en día no seriamos capaces de realizar estos trabajos sin ella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Ventajas: nos permite realizar el trabajo más rápido, preciso, sin mayor esfuerzo y sin utilizar tantos recurso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53964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600" spc="-1" strike="noStrike">
                <a:solidFill>
                  <a:srgbClr val="feec94"/>
                </a:solidFill>
                <a:latin typeface="Times New Roman"/>
              </a:rPr>
              <a:t>Ensayo</a:t>
            </a:r>
            <a:endParaRPr b="1" lang="en-US" sz="96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1" name=""/>
          <p:cNvSpPr/>
          <p:nvPr/>
        </p:nvSpPr>
        <p:spPr>
          <a:xfrm>
            <a:off x="-158760" y="219960"/>
            <a:ext cx="9555120" cy="655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400" spc="-1" strike="noStrike" u="sng">
                <a:solidFill>
                  <a:srgbClr val="ffffff"/>
                </a:solidFill>
                <a:uFillTx/>
                <a:latin typeface="Arial"/>
              </a:rPr>
              <a:t>Los robots reemplazaran a los humanos algún dí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Hoy en día nos encontramos rodeados de máquinas, computadoras y robots; la pregunta es, esto nos beneficia o nos afect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Los robots han llegado a reemplazar, hasta cierto punto, a los seres humanos en distintas labor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Estos se han ido introduciendo poco a poco en nuestra sociedad, uno de los primeros y más importantes que podemos mencionar fue el p</a:t>
            </a:r>
            <a:r>
              <a:rPr b="0" lang="es-ES" sz="2000" spc="-1" strike="noStrike">
                <a:solidFill>
                  <a:srgbClr val="ffffff"/>
                </a:solidFill>
                <a:latin typeface="Arial"/>
              </a:rPr>
              <a:t>rimer robot comercial, creado en 1956 por la compañía Unimation fundada por </a:t>
            </a:r>
            <a:r>
              <a:rPr b="0" lang="es-ES" sz="2000" spc="-1" strike="noStrike" u="sng">
                <a:solidFill>
                  <a:srgbClr val="ffffcc"/>
                </a:solidFill>
                <a:uFillTx/>
                <a:latin typeface="Arial"/>
                <a:hlinkClick r:id="rId1"/>
              </a:rPr>
              <a:t>George </a:t>
            </a:r>
            <a:r>
              <a:rPr b="0" lang="es-ES" sz="2000" spc="-1" strike="noStrike" u="sng">
                <a:solidFill>
                  <a:srgbClr val="ffffcc"/>
                </a:solidFill>
                <a:uFillTx/>
                <a:latin typeface="Arial"/>
                <a:hlinkClick r:id="rId2"/>
              </a:rPr>
              <a:t>Devol</a:t>
            </a:r>
            <a:r>
              <a:rPr b="0" lang="es-ES" sz="2000" spc="-1" strike="noStrike">
                <a:solidFill>
                  <a:srgbClr val="ffffff"/>
                </a:solidFill>
                <a:latin typeface="Arial"/>
              </a:rPr>
              <a:t> y </a:t>
            </a:r>
            <a:r>
              <a:rPr b="0" lang="es-ES" sz="2000" spc="-1" strike="noStrike" u="sng">
                <a:solidFill>
                  <a:srgbClr val="ffffcc"/>
                </a:solidFill>
                <a:uFillTx/>
                <a:latin typeface="Arial"/>
                <a:hlinkClick r:id="rId3"/>
              </a:rPr>
              <a:t>Joseph </a:t>
            </a:r>
            <a:r>
              <a:rPr b="0" lang="es-ES" sz="2000" spc="-1" strike="noStrike" u="sng">
                <a:solidFill>
                  <a:srgbClr val="ffffcc"/>
                </a:solidFill>
                <a:uFillTx/>
                <a:latin typeface="Arial"/>
                <a:hlinkClick r:id="rId4"/>
              </a:rPr>
              <a:t>Engelberger</a:t>
            </a:r>
            <a:r>
              <a:rPr b="0" lang="es-ES" sz="2000" spc="-1" strike="noStrike">
                <a:solidFill>
                  <a:srgbClr val="ffffff"/>
                </a:solidFill>
                <a:latin typeface="Arial"/>
              </a:rPr>
              <a:t>. Tras años de trabajo e innovaciones tecnológicas llegamos al día de hoy. Existen ventajas y desventajas sobre la existencia de los robots en la vida de las person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laro está que los robots han aportado muchas cosas para mejorar la calidad de vida como por ejemplo el uso de estos para personas discapacitadas como los no videntes y guiarlos de una manera más efectiva: éste es el robot que por medio de la voz reconoce las órdenes de la persona para realizar todas las actividades necesarias y que a diferencias de las mascotas no distraen y no se corre el riesgo de accident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tro beneficio que podemos mencionar es el uso de robots en trabajos peligrosos como investigaciones científicas en volcanes o las misiones espaciales de la NAS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2" name=""/>
          <p:cNvSpPr/>
          <p:nvPr/>
        </p:nvSpPr>
        <p:spPr>
          <a:xfrm>
            <a:off x="179280" y="-49320"/>
            <a:ext cx="8964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el contrario el uso de robots ha traído severas consecuencias para nuestra sociedad ya que han venido reemplazando a los seres humanos en ciertas labores. Un ejemplo de ellas se encuentra en la industria, ya que se esta gastando mucho dinero comprando maquinaria que sustituye el trabajo de los empleados. También tenemos otra situación como que se han creado robots que sean capaces de redactar blogs, los cuales le quitan el empleo a los bloggers que son los encargados de redactarlos. Por lo tanto situaciones como estas ocasionan muchos casos de desemple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pondiendo nuestra pregunta, tenemos que aceptar que los robots nos van ha traer muchas ventajas pero a la vez algunos problemas. Es decisión de cada uno de nosotros determinar cómo los usaremos, si para bien o para mal. Los robots tal vez lleguen a reemplazar al hombre en muchas áreas, sin embargo nunca podrán hacerlo del todo porque los seres humanos somos únic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8"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Lista de los beneficios que  se obtienen de los formatos electrónicos en materiales bibliotecari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Permite agilizar el préstamo de los libr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Porque cada libro y cada usuario tienen su propio código de barr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Los lectores ópticos ingresan a la base de datos la transacción de forma inmedia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9" name="PlaceHolder 1"/>
          <p:cNvSpPr>
            <a:spLocks noGrp="1"/>
          </p:cNvSpPr>
          <p:nvPr>
            <p:ph/>
          </p:nvPr>
        </p:nvSpPr>
        <p:spPr>
          <a:xfrm>
            <a:off x="324000" y="260280"/>
            <a:ext cx="8229600" cy="4525920"/>
          </a:xfrm>
          <a:prstGeom prst="rect">
            <a:avLst/>
          </a:prstGeom>
          <a:noFill/>
          <a:ln w="0">
            <a:noFill/>
          </a:ln>
        </p:spPr>
        <p:txBody>
          <a:bodyPr lIns="90000" rIns="90000" tIns="46800" bIns="46800" anchor="t">
            <a:normAutofit/>
          </a:bodyPr>
          <a:p>
            <a:pPr marL="609480" indent="-60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Se ahorra papel ya que no se dan recibos ni otros documentos si no que se hace se forma electrónica por medio de la tarjeta.</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En otras bibliotecas se utilizan sistemas de búsqueda rápida en las computadora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560" name="PlaceHolder 1"/>
          <p:cNvSpPr>
            <a:spLocks noGrp="1"/>
          </p:cNvSpPr>
          <p:nvPr>
            <p:ph/>
          </p:nvPr>
        </p:nvSpPr>
        <p:spPr>
          <a:xfrm>
            <a:off x="395280" y="259920"/>
            <a:ext cx="8229600" cy="619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bajos que han llegado a ser obsoletos por las computadora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Arial"/>
              </a:rPr>
              <a:t>Arquitectura: años atrás las personas hacían puentes, edificios…. Y lo hacían como una manera manual y más artística, incluso las pirámides fueron hechas de este modo. Ahora todo eso se logra de una manera más rápida por medio de las computad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1" name=""/>
          <p:cNvSpPr/>
          <p:nvPr/>
        </p:nvSpPr>
        <p:spPr>
          <a:xfrm>
            <a:off x="2627280" y="407664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2" name="" descr="">
            <a:hlinkClick r:id="rId1"/>
          </p:cNvPr>
          <p:cNvPicPr/>
          <p:nvPr/>
        </p:nvPicPr>
        <p:blipFill>
          <a:blip r:embed="rId2"/>
          <a:stretch/>
        </p:blipFill>
        <p:spPr>
          <a:xfrm>
            <a:off x="2916360" y="4149720"/>
            <a:ext cx="2592360" cy="21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3" name="PlaceHolder 1"/>
          <p:cNvSpPr>
            <a:spLocks noGrp="1"/>
          </p:cNvSpPr>
          <p:nvPr>
            <p:ph/>
          </p:nvPr>
        </p:nvSpPr>
        <p:spPr>
          <a:xfrm>
            <a:off x="179280" y="3645000"/>
            <a:ext cx="4572000" cy="4076640"/>
          </a:xfrm>
          <a:prstGeom prst="rect">
            <a:avLst/>
          </a:prstGeom>
          <a:noFill/>
          <a:ln w="0">
            <a:noFill/>
          </a:ln>
        </p:spPr>
        <p:txBody>
          <a:bodyPr lIns="90000" rIns="90000" tIns="46800" bIns="46800" anchor="t">
            <a:normAutofit/>
          </a:bodyPr>
          <a:p>
            <a:pPr marL="343080" indent="-343080">
              <a:spcBef>
                <a:spcPts val="601"/>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imes New Roman"/>
              </a:rPr>
              <a:t>Animación: anteriormente se acostumbraba a hacer los dibujos a mano paso por paso, hoy en día contamos con programas que hacen este trabajo.</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4" name="" descr="">
            <a:hlinkClick r:id="rId1"/>
          </p:cNvPr>
          <p:cNvPicPr/>
          <p:nvPr/>
        </p:nvPicPr>
        <p:blipFill>
          <a:blip r:embed="rId2"/>
          <a:stretch/>
        </p:blipFill>
        <p:spPr>
          <a:xfrm>
            <a:off x="5219640" y="4005360"/>
            <a:ext cx="3305160" cy="2479680"/>
          </a:xfrm>
          <a:prstGeom prst="rect">
            <a:avLst/>
          </a:prstGeom>
          <a:ln w="0">
            <a:noFill/>
          </a:ln>
        </p:spPr>
      </p:pic>
      <p:pic>
        <p:nvPicPr>
          <p:cNvPr id="1565" name="" descr=""/>
          <p:cNvPicPr/>
          <p:nvPr/>
        </p:nvPicPr>
        <p:blipFill>
          <a:blip r:embed="rId3"/>
          <a:stretch/>
        </p:blipFill>
        <p:spPr>
          <a:xfrm>
            <a:off x="755640" y="549360"/>
            <a:ext cx="2192400" cy="21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343080" indent="-34308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Industria: antes las personas tenían más trabajos en las fabricas por ejemplo en la inspección de productos.. Ahora las computadoras controlan programas de automatización que sustituyen éstos trabajos</a:t>
            </a:r>
            <a:endParaRPr b="0" lang="en-US" sz="3200" spc="-1" strike="noStrike">
              <a:solidFill>
                <a:srgbClr val="ffffff"/>
              </a:solidFill>
              <a:latin typeface="Tahoma"/>
            </a:endParaRPr>
          </a:p>
        </p:txBody>
      </p:sp>
      <p:pic>
        <p:nvPicPr>
          <p:cNvPr id="1567" name="" descr=""/>
          <p:cNvPicPr/>
          <p:nvPr/>
        </p:nvPicPr>
        <p:blipFill>
          <a:blip r:embed="rId1"/>
          <a:stretch/>
        </p:blipFill>
        <p:spPr>
          <a:xfrm>
            <a:off x="5651640" y="3429000"/>
            <a:ext cx="2160360" cy="287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dbbd71"/>
                </a:solidFill>
                <a:latin typeface="Arial"/>
              </a:rPr>
              <a:t>Resumen de la Automatización</a:t>
            </a:r>
            <a:endParaRPr b="0" lang="en-US" sz="4400" spc="-1" strike="noStrike">
              <a:solidFill>
                <a:srgbClr val="dbbd71"/>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Actualmente en muchas fábricas y almacenes</a:t>
            </a:r>
            <a:r>
              <a:rPr b="0" lang="es-CR" sz="2800" spc="-1" strike="noStrike">
                <a:solidFill>
                  <a:srgbClr val="ffffff"/>
                </a:solidFill>
                <a:latin typeface="Tahoma"/>
              </a:rPr>
              <a:t> </a:t>
            </a:r>
            <a:r>
              <a:rPr b="0" lang="es-CR" sz="2400" spc="-1" strike="noStrike">
                <a:solidFill>
                  <a:srgbClr val="ffffff"/>
                </a:solidFill>
                <a:latin typeface="Tahoma"/>
              </a:rPr>
              <a:t>se esta utilizando la automatización computarizada controla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Al ser combinada con otros sistemas producen máquinas que son usadas en líneas de producción.</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Un ejemplo de esta automatización son los brazos robóticos que se utilizan, por ejemplo para ensamblar productos de manera más rápida y precis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También podemos mencionar el caso de robots que sustituyen a las personas en trabajos peligros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Identificación, censores y sistemas de rastreo</a:t>
            </a:r>
            <a:endParaRPr b="0" lang="en-US" sz="3600" spc="-1" strike="noStrike">
              <a:solidFill>
                <a:srgbClr val="ffffcc"/>
              </a:solidFill>
              <a:latin typeface="Tahoma"/>
            </a:endParaRPr>
          </a:p>
        </p:txBody>
      </p:sp>
      <p:sp>
        <p:nvSpPr>
          <p:cNvPr id="1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En los negocios los lectores ópticos eliminan el costoso trabajo de utilizar etiquetas y digitar el monto de cada producto vendido por medio de los códigos de barra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Este mismo sistema nos ayuda a actualizar el inventario y nos informa cuando es necesario realizar pedido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 </a:t>
            </a:r>
            <a:r>
              <a:rPr b="0" lang="es-CR" sz="2800" spc="-1" strike="noStrike">
                <a:solidFill>
                  <a:srgbClr val="ffffff"/>
                </a:solidFill>
                <a:latin typeface="Tahoma"/>
              </a:rPr>
              <a:t>En el caso de las bibliotecas permite hacer la transacción de un libro de manera inmediata ya que esta es registrada en el sistem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cc"/>
                </a:solidFill>
                <a:latin typeface="Tahoma"/>
              </a:rPr>
              <a:t>Cosas Inteligentes</a:t>
            </a:r>
            <a:endParaRPr b="0" lang="en-US" sz="4400" spc="-1" strike="noStrike">
              <a:solidFill>
                <a:srgbClr val="ffffcc"/>
              </a:solidFill>
              <a:latin typeface="Tahoma"/>
            </a:endParaRPr>
          </a:p>
        </p:txBody>
      </p:sp>
      <p:sp>
        <p:nvSpPr>
          <p:cNvPr id="15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En toda clase de aplicaciones podemos encontrar transmisores de radio diminuto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Por ejemplo son implantados en los pollos para controlar su temperatura y asi prevenir enfermedades y muerte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En la agricultura se implantan en la tierra para medir la acidez, humedad y otr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2:10:07Z</dcterms:created>
  <dc:creator>Kate</dc:creator>
  <dc:description/>
  <dc:language>en-US</dc:language>
  <cp:lastModifiedBy>Kate</cp:lastModifiedBy>
  <dcterms:modified xsi:type="dcterms:W3CDTF">2009-03-11T17:44:21Z</dcterms:modified>
  <cp:revision>9</cp:revision>
  <dc:subject/>
  <dc:title>Colegio Bilingüe de Palmares Trabajo de TISG Integrantes:  Alina Rodríguez R. María Angélica Vargas M. Katherine Villalobos Z. BI 1-2 2009</dc:title>
</cp:coreProperties>
</file>